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F901-2202-478F-9E8C-DAAC3D2E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5BD5-C80D-4898-BBE8-A601E1A2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3BCD-5F3F-4077-8C4B-569099B38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E51F-6BFD-4EE4-8E71-6390FEDC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6C6E-6293-4F73-9B95-C754DC24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23BC-689E-4B10-92BE-59490904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30BA-22F6-4776-8AA3-86B6B09F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B29F-2904-4D20-B725-E93DF424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A3CB-6C04-4EB8-98B3-15C59991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CCCF-AA9E-4A4C-ABCA-4BAFA28F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8668-D662-4F1A-9C8C-5838FC4C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35B2-8333-4125-9E1E-DD10884C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E088-8BB7-49FD-B8AD-A8E82A4392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91947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NAVODILA OU O UPRAVIČENIH STROŠKIH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UPORABA „POS“ 2014-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312560" y="1784520"/>
            <a:ext cx="9620280" cy="38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STANDARDNE LESTVICE STROŠKOV NA ENO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i temeljijo na proces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i temeljijo na rezultati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i temeljijo na procesu in rezulta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formula za urno postavko stroškov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PAVŠALNI ZNES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kombiniranje vseh oblik „POS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400"/>
            <a:ext cx="92613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cerne.tanja@gov.si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773360" y="622080"/>
            <a:ext cx="71388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PODLAGE ZA PRIPRAVO NAVODIL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751040" y="2154240"/>
            <a:ext cx="8043840" cy="30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EVROPSKA ZAKONODAJ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spremembe splošne uredbe in po posameznih skladi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ACIONALNA ZAKONODA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KUŠNJE 2007-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ontrola upraviče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reviz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50800" y="341280"/>
            <a:ext cx="67788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2e75b6"/>
                </a:solidFill>
                <a:latin typeface="Calibri"/>
              </a:rPr>
              <a:t>GLAVNE SPREMEMBE 2014-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521000" y="1633680"/>
            <a:ext cx="930888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548235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548235"/>
                </a:solidFill>
                <a:latin typeface="Calibri"/>
              </a:rPr>
              <a:t>SPLOŠNE DEFINICIJE IN PRAVI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strošek nastane z dnem opravljene storitve oziroma z dnem dobave bla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eRač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d 1.1.2016 elektronska izmenjava podatkov med udeleženci EK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jeme so določene v ZIPRS 14/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 okviru preverjanja upravičenosti se lahko zahteva dodatna dokazila, ki niso opredeljena v navodili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dokazovanje upravičenosti je dolžnost upravičen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za operacije, ki so predmet državnih pomoči, je potrebno preveriti rok hrambe dokumentac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27040" y="187200"/>
            <a:ext cx="3051360" cy="11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2e75b6"/>
                </a:solidFill>
                <a:latin typeface="Calibri"/>
              </a:rPr>
              <a:t>INVESTICI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061640" y="1275840"/>
            <a:ext cx="964260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548235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400" spc="-1" strike="noStrike">
                <a:solidFill>
                  <a:srgbClr val="548235"/>
                </a:solidFill>
                <a:latin typeface="Calibri"/>
              </a:rPr>
              <a:t>NAKUP ZGRA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is iz zemljiške knjige pridobi skrbnik pogodbe sam (javne eviden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548235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400" spc="-1" strike="noStrike">
                <a:solidFill>
                  <a:srgbClr val="548235"/>
                </a:solidFill>
                <a:latin typeface="Calibri"/>
              </a:rPr>
              <a:t>GRADNJA NEPREMIČN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javno-zasebno partnerst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pravnomočno gradbeno dovoljenje z vsemi sprememba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548235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400" spc="-1" strike="noStrike">
                <a:solidFill>
                  <a:srgbClr val="548235"/>
                </a:solidFill>
                <a:latin typeface="Calibri"/>
              </a:rPr>
              <a:t>NAKUP NEZAZIDANIH ZEMLJIŠ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datek nakupa nezazidanega zemljišča ne sme predstavljati več kakor 10% skupnih upravičenih stroškov in izdatkov operacije (15% ali 2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stroške za nakup nezazidanega zemljišča se lahko takoj po opravljenih preverjanjih vključi v ZAP, vendar se pri zadnjem ZZI preveri višino obračunanega delež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is iz zemljiške knjige pridobi skrbnik pogodbe sam (javne eviden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1419120" y="1919160"/>
            <a:ext cx="915048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548235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400" spc="-1" strike="noStrike">
                <a:solidFill>
                  <a:srgbClr val="548235"/>
                </a:solidFill>
                <a:latin typeface="Calibri"/>
              </a:rPr>
              <a:t>OPREMA IN DRUGA OPREDMETENA OSNOV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up je upravičen tudi v okviru 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upravičen je nakup vozil (v kolikor je neposredno povezano s cilji operacij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prema, ki ne presega nabavne vrednosti 500 EUR in S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fotografije opre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title"/>
          </p:nvPr>
        </p:nvSpPr>
        <p:spPr>
          <a:xfrm>
            <a:off x="1093680" y="590400"/>
            <a:ext cx="8553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2e75b6"/>
                </a:solidFill>
                <a:latin typeface="Calibri"/>
              </a:rPr>
              <a:t>INVESTICI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95360" y="744480"/>
            <a:ext cx="650088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548235"/>
                </a:solidFill>
                <a:latin typeface="Calibri"/>
              </a:rPr>
              <a:t>AMORTIZACI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776240" y="2198160"/>
            <a:ext cx="9018720" cy="29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stroške amortizacije je potrebno obračunati v skladu z nacionalnimi predpisi in internimi akti upravičenca, če ti določajo daljše obdobje amortizac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račun za osnovno sredstvo, za katerega se uveljavlja amortizacija kot upravičen stroš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5840" y="528120"/>
            <a:ext cx="8677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2e75b6"/>
                </a:solidFill>
                <a:latin typeface="Calibri"/>
              </a:rPr>
              <a:t>STROŠKI PLAČ IN POVRAČIL STROŠKOV V ZVEZI Z DELOM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15480" y="1935000"/>
            <a:ext cx="930924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548235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400" spc="-1" strike="noStrike">
                <a:solidFill>
                  <a:srgbClr val="548235"/>
                </a:solidFill>
                <a:latin typeface="Calibri"/>
              </a:rPr>
              <a:t>STROŠKI PLA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ot zaposlene se razume osebe, ki so z upravičencem sklenile pogodbo o zaposlit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soglasje po ZUJF za javni sek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dločba ali sklep o letnem dopus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dokazilo o plačilu vseh strošk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548235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400" spc="-1" strike="noStrike">
                <a:solidFill>
                  <a:srgbClr val="548235"/>
                </a:solidFill>
                <a:latin typeface="Calibri"/>
              </a:rPr>
              <a:t>STROŠKI ZA SLUŽBENA POTOV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ilometrina v skladu s 173. členom ZUJ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strošek nakupa dnevnih vinjet je upravičen le, če je namenjen izključno službenemu potovanju povezanem z oper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2e75b6"/>
                </a:solidFill>
                <a:latin typeface="Calibri"/>
              </a:rPr>
              <a:t>STROŠKI STORITEV ZUNANJIH IZVAJALC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380600" y="2028960"/>
            <a:ext cx="930924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oglasje po ZUJF za javni sek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dokazilo o plačilu pripadajočih davkov in prispevk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bračun avtorskega de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29800" y="8568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UPORABA „POS“ 2014-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317240" y="1373040"/>
            <a:ext cx="930924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PAVŠALNO FINANCIRAN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uporablja se lahko za vse vrste stroškov (ne le za posredn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do 25% pavšalno financiranje za posredne stroške na podlagi metodolog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do 15% pavšalnega financiranja za posredne stroške, ki se določijo na podlagi upravičenih neposrednih stroškov za oseb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uporaba stopenj pavšalnega financiranja, ki obstajajo v politikah Unije (Obzorje 2020, LIF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ESS – do 40% za vse ostale stroške glede na upravičene neposredne stroške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8T12:05:15Z</dcterms:created>
  <dc:creator>Tanja Černe</dc:creator>
  <dc:description/>
  <dc:language>en-US</dc:language>
  <cp:lastModifiedBy>Tanja Černe</cp:lastModifiedBy>
  <dcterms:modified xsi:type="dcterms:W3CDTF">2015-11-30T12:20:10Z</dcterms:modified>
  <cp:revision>21</cp:revision>
  <dc:subject/>
  <dc:title>POSTOPEK IMENOVANJA</dc:title>
</cp:coreProperties>
</file>